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chimes.wav" ContentType="audio/x-wav"/>
  <Override PartName="/ppt/media/image2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5.png" ContentType="image/png"/>
  <Override PartName="/ppt/media/image10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3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<Relationship Id="rId37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26T23:28:10.424000000" idx="1">
    <p:pos x="1479" y="818"/>
    <p:text/>
  </p:cm>
</p:cmLst>
</file>

<file path=ppt/comments/comment17.xml><?xml version="1.0" encoding="utf-8"?>
<p:cmLst xmlns:p="http://schemas.openxmlformats.org/presentationml/2006/main">
  <p:cm authorId="0" dt="2016-08-26T23:28:13.483000000" idx="2">
    <p:pos x="4799" y="107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CB4-5317-4EA3-8627-0DE20ABF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54F-6803-406C-B739-1C93C88E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6068B-0C43-4826-B893-EDF4FC28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611C7-CF9A-4890-BD7C-EAC94EFF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A4FC8-8E98-41A3-A774-F49EF8AD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081E8-CD75-4468-B8BF-5D0DFC50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4EEB8-9337-4647-BC6D-D74ADBD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B2B62-9731-49DA-ADE4-7DAEDE15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06774-4B41-42F3-BDE2-E4921499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4BD18-CA3B-46E0-9391-E6BBF355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B2DB5-9BE2-48D5-A5CB-D2A3374E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F6EFA-8FC5-4487-9D31-9EF2CB5B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F6C-8F7E-47A4-AF1C-2F6F99B0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62C858-DD19-4E39-91DF-17DB391B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75702-EC1E-41A8-9218-AB138172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51246-173A-46BF-8E46-0D389086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55763-CAF1-4566-BBA6-18DFA1DB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4F446-1455-4BCD-8EB1-5D574542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E36E1-2970-4165-A683-7AA8D4F2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CCF74-D7D8-4AEE-8B6E-BA4489EB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B372E-2772-456E-B247-33866B81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CC10E-3049-4E88-9EF9-068AF71A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7D258-BC5F-4880-BCC5-2227BEFF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B74-02EF-4B23-8DC5-ED49A88A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5A3FB-B593-4F36-A33B-98D54C6F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58E8B-3E41-4A31-9618-B8263D75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BB46C-C352-4FD8-BC9C-9DD59C48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4E2AA-3845-45C9-9D24-12DDFA26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F9C06-3CF1-4D51-BE1D-D64A3BBE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10A17-1FBE-4362-9E7E-781E5B08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4F652-69FC-4BC3-BC53-13A9CDD0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60840-2144-4357-8359-71BAD143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B1734-89D0-45AB-977D-843F78F1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56E44-9E98-44A7-824E-4DB3DE77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9FD8-68E7-4D07-A3E3-A68BE8D9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64B10-7F83-4A3B-89D0-BDB0628A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BA783-B424-4DBF-8617-62EEDA9D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E0D76-AEE2-4165-A2BE-4BC03250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BCB32-3E1B-4CBD-BE43-3121CF26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9F098-2C8F-4201-8EFF-EA7F5748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FC536-4568-4012-9C30-2759E0AA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F7D21-04B9-4785-AA4D-B3165DC4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54B24-F160-49E0-8C58-A961967F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9C423-DA82-4F82-917B-56C06293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D0541-5E55-4F52-91BF-6B850BF4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CFD9-B675-4CD1-9138-D6CC4E57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05273-701A-4564-AE8E-A9A9C0A7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2D6904-F793-4103-92DF-48DF5BDE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C937B-7CCB-403E-80FE-4D5382BE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3A1F1-EB8C-4680-AD61-D79C8DB4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9886E-5AB3-4098-9143-EF798E85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EFA2-74A9-47D8-A5B9-8F6B03A1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9CFF-F92A-4CA0-9FC1-D674EDC3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90EC-82C7-492D-ADB0-A3C519F1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9A71-EE65-405F-95E3-4331FE67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E4F1-348B-4825-9A00-E65AB4A4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486-A529-432F-86B5-221F3181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1703-D1AE-462D-8E60-FD3635F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9B4D-3559-4837-99C2-E34DE5D6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E374-E286-4086-9429-D14ADB62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D04D-A32C-4C31-834B-1A9BE1C5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2528-55AD-473D-A401-0EF907CE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CFD6B-893F-4F23-88AF-B3906FED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53BE-5BA8-4234-9EB9-E1C97A5C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BA9B4-8895-4354-B648-4A63B1D8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53695-53C7-4062-AEF2-5A0AB89E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CAC3-BFFC-4320-8CDA-5EBA6100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2973-73F7-4803-BA38-F9A27F67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2109-0286-4F56-AF2C-58AB0FDB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7D16-E426-4151-A54B-CEC1AE0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8AC2F-BA1B-40C8-BDA1-7C0F92E0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14152-6D97-438B-95AF-98CCD65E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6DDB8-1104-4633-9AC0-8315E83D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9FC55-69FA-4C82-BA90-B5AF7585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9A42-F521-4C65-A81A-F39A1F1D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70FEB-8E1A-4538-9109-92D7B785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F0970-08F2-48D3-B2AA-95FFE747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89198-8CDF-4C18-93EA-321F1F87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42B-4EFC-40EC-AB29-3DA4218F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EC440-830A-4D38-A6CA-DE465798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CA2A1-4DB9-459A-9914-FBECB613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ADEB1-1340-41DF-84A7-493EA2C1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C79EF-C289-47DB-B782-35B6AFA1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14E53-7097-431F-89BE-A432A3B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7320A-9384-4C96-B044-FC5F4518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F600-99DF-4BC9-BFC4-FF098156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0C8F7-105F-4F59-9FCF-36853928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08566-C8C0-4D07-B3C5-65441836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BB271-7C95-4A65-B39B-7A99AEA9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22F-E308-4A46-B47F-3FE6BDAA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14FDB-35C5-44A5-AA81-A49AA2BD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AF78-5CDB-481C-88CB-6D811BED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5C339-85AF-46CE-BC76-FAAE0DFE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67BE4-D4CA-4EB9-A1BA-D62021D5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069FB-A2CA-4266-ABC6-73AD64B6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6D086-7C49-4E06-B6DB-98D3F037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2C71C-FF3D-4224-B49F-B33D4C17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368D2-D0D3-4488-906E-BE1C2D53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55386-0FB8-4FCC-BBF2-1AFC266A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A75EF-A440-4865-9488-0CECE904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1D5C-8F37-4B2B-9CBF-96E66784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A5EF1-5A2B-4086-A6A9-725F5370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24705-2932-4A88-80D5-13775876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8B5AE-F1ED-482F-848F-E1113AE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CD2B4-447B-4A8E-A473-4AD46B2D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B2542-A0E4-4CFD-B81A-D87F17DC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7902C-9FCA-4E37-923F-F728B8E6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847A1-AFA7-4A25-A620-1B744AE3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E6274-4CFB-4AB9-A2D2-8E748DC2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7B226-761F-4EEA-8F1B-C03141CD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57793-6BDA-4D94-A096-4960D34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048-EB87-4085-B7C9-7B10609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ED15A-6D68-4036-854E-5CAA864E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E4FDF-EA42-4BDD-9375-D6B18855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F30A9-396B-466D-942B-77A03118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2BE94-94D8-4EDA-825A-45F36913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38E48-624B-47ED-88A1-AD1DC9E0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20EAA-D845-4AB9-9310-32DED456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10868-6E44-4ADA-B9DE-0827C211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59CD-F1E2-4AC5-9E66-370A17CF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AE8B1-B7F9-425A-9197-48770B0E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3FA0A-1A77-419D-BDAB-9D647A8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C8D8-C0E1-4403-9668-65EA364C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B70A6-CCB6-470F-9B71-1BFD585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CF08-84C4-4B74-9157-B09FB1D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63D63-00BC-4A23-B0E6-BB442780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DCF9F-7480-4F53-A032-5976BE3A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7DA1-E670-4044-B186-944DE2A6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F0DFE-BD08-40AD-AFE6-4E812C27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D98E2-B9C8-478F-9E0A-89BDD4831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132AA-A407-4168-A03A-C2B7B12B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6DDE0-082D-4B67-9766-21383395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7CA08-0DF5-4BBB-8C3F-B69CD14E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438-D43C-451A-8214-977B077E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C457A-444C-46F5-9988-9B61AE87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5FB67-3E82-490A-88F4-F4627FEF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DFA19-6BD0-4603-B86C-5ED2E36A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9BE1-296A-4E81-BF92-EDF3ADC0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20FEA-C563-4793-83ED-5B8C6C45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1866B-E53C-48C3-A0DC-7A1CAC17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AE2B1-CBD3-4E82-9833-F9F12883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205F6-08C5-4F66-BDE7-A662A084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D35DD-57F8-4B8F-A9EA-0CEBABD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FC763-E2A1-405C-B77A-4A4A4EC5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993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993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993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994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994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994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994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9928-B84C-4A8C-B252-451A93BE74C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A177-9949-4E19-BAEE-104B6CCDCD6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37F6-F70F-4FB1-8AE9-9425F00B37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2E15-2320-4535-B983-41FC2391D12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4096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4096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096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096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096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4096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4096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1829-2A92-414E-A950-841802312AB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3A63-C30B-4765-BB8F-C5C685C1ACF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6BE4-107D-4DEA-8D00-FE8BAB660E8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E52D-ADF8-4A78-AA71-122E3E3F09E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F7F4-E983-44BC-AF01-F835FC339A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2E16-0DA4-496D-8C36-640A9941D37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E5A7-DABB-4B21-AC73-A22DB98BFA5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EF09-047B-4CEB-AF7B-F69B441D5DE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5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1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2" name="矩形 4"/>
          <p:cNvSpPr/>
          <p:nvPr/>
        </p:nvSpPr>
        <p:spPr>
          <a:xfrm>
            <a:off x="540720" y="76500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an  en  in un  ün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1371600" cy="21240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408480" y="12682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2590920" cy="2239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1066680" cy="9367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1066680" cy="8445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3"/>
          <a:stretch/>
        </p:blipFill>
        <p:spPr>
          <a:xfrm>
            <a:off x="6553080" y="3962520"/>
            <a:ext cx="1067040" cy="747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"/>
          <p:cNvPicPr/>
          <p:nvPr/>
        </p:nvPicPr>
        <p:blipFill>
          <a:blip r:embed="rId4"/>
          <a:stretch/>
        </p:blipFill>
        <p:spPr>
          <a:xfrm>
            <a:off x="2719440" y="1509840"/>
            <a:ext cx="5153040" cy="2419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" descr=""/>
          <p:cNvPicPr/>
          <p:nvPr/>
        </p:nvPicPr>
        <p:blipFill>
          <a:blip r:embed="rId5"/>
          <a:stretch/>
        </p:blipFill>
        <p:spPr>
          <a:xfrm>
            <a:off x="3276720" y="3975120"/>
            <a:ext cx="1447560" cy="797040"/>
          </a:xfrm>
          <a:prstGeom prst="rect">
            <a:avLst/>
          </a:prstGeom>
          <a:ln w="0">
            <a:noFill/>
          </a:ln>
        </p:spPr>
      </p:pic>
      <p:sp>
        <p:nvSpPr>
          <p:cNvPr id="6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1371600" cy="2124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"/>
          <p:cNvPicPr/>
          <p:nvPr/>
        </p:nvPicPr>
        <p:blipFill>
          <a:blip r:embed="rId2"/>
          <a:stretch/>
        </p:blipFill>
        <p:spPr>
          <a:xfrm>
            <a:off x="2679840" y="2514600"/>
            <a:ext cx="1704960" cy="22384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4"/>
          <p:cNvSpPr/>
          <p:nvPr/>
        </p:nvSpPr>
        <p:spPr>
          <a:xfrm>
            <a:off x="3532320" y="126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整体认读音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09720" cy="237168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3851280" y="981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810040" cy="2400120"/>
          </a:xfrm>
          <a:prstGeom prst="rect">
            <a:avLst/>
          </a:prstGeom>
          <a:ln w="0">
            <a:noFill/>
          </a:ln>
        </p:spPr>
      </p:pic>
      <p:sp>
        <p:nvSpPr>
          <p:cNvPr id="6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1981080" cy="11174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2387520" y="1676520"/>
            <a:ext cx="1600200" cy="11682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5207040" y="342900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"/>
          <p:cNvPicPr/>
          <p:nvPr/>
        </p:nvPicPr>
        <p:blipFill>
          <a:blip r:embed="rId4"/>
          <a:stretch/>
        </p:blipFill>
        <p:spPr>
          <a:xfrm>
            <a:off x="4902120" y="1676520"/>
            <a:ext cx="1828800" cy="1033200"/>
          </a:xfrm>
          <a:prstGeom prst="rect">
            <a:avLst/>
          </a:prstGeom>
          <a:ln w="0">
            <a:noFill/>
          </a:ln>
        </p:spPr>
      </p:pic>
      <p:sp>
        <p:nvSpPr>
          <p:cNvPr id="6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图片 10" descr=""/>
          <p:cNvPicPr/>
          <p:nvPr/>
        </p:nvPicPr>
        <p:blipFill>
          <a:blip r:embed="rId1"/>
          <a:stretch/>
        </p:blipFill>
        <p:spPr>
          <a:xfrm>
            <a:off x="812880" y="784080"/>
            <a:ext cx="7791480" cy="52992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2"/>
          <p:cNvSpPr/>
          <p:nvPr/>
        </p:nvSpPr>
        <p:spPr>
          <a:xfrm>
            <a:off x="1981080" y="1979280"/>
            <a:ext cx="91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Dotum"/>
                <a:ea typeface="Dotum"/>
              </a:rPr>
              <a:t>g</a:t>
            </a:r>
            <a:br>
              <a:rPr sz="6000"/>
            </a:b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</a:t>
            </a:r>
            <a:br>
              <a:rPr sz="6000"/>
            </a:b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914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2590920" y="2819520"/>
            <a:ext cx="685800" cy="457200"/>
            <a:chOff x="2590920" y="2819520"/>
            <a:chExt cx="685800" cy="457200"/>
          </a:xfrm>
        </p:grpSpPr>
        <p:sp>
          <p:nvSpPr>
            <p:cNvPr id="654" name="Line 4"/>
            <p:cNvSpPr/>
            <p:nvPr/>
          </p:nvSpPr>
          <p:spPr>
            <a:xfrm>
              <a:off x="2590920" y="28195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2590920" y="28195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590920" y="3505320"/>
            <a:ext cx="609480" cy="360"/>
            <a:chOff x="2590920" y="3505320"/>
            <a:chExt cx="609480" cy="360"/>
          </a:xfrm>
        </p:grpSpPr>
        <p:sp>
          <p:nvSpPr>
            <p:cNvPr id="657" name="Line 5"/>
            <p:cNvSpPr/>
            <p:nvPr/>
          </p:nvSpPr>
          <p:spPr>
            <a:xfrm>
              <a:off x="2590920" y="3505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2590920" y="35053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895120" y="3657600"/>
            <a:ext cx="381600" cy="533520"/>
            <a:chOff x="2895120" y="3657600"/>
            <a:chExt cx="381600" cy="533520"/>
          </a:xfrm>
        </p:grpSpPr>
        <p:sp>
          <p:nvSpPr>
            <p:cNvPr id="660" name="Line 6"/>
            <p:cNvSpPr/>
            <p:nvPr/>
          </p:nvSpPr>
          <p:spPr>
            <a:xfrm flipV="1">
              <a:off x="2895480" y="3657600"/>
              <a:ext cx="3812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 rot="10800000">
              <a:off x="2895120" y="365760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419720" y="2743200"/>
            <a:ext cx="761760" cy="457200"/>
            <a:chOff x="4419720" y="2743200"/>
            <a:chExt cx="761760" cy="457200"/>
          </a:xfrm>
        </p:grpSpPr>
        <p:sp>
          <p:nvSpPr>
            <p:cNvPr id="663" name="Line 7"/>
            <p:cNvSpPr/>
            <p:nvPr/>
          </p:nvSpPr>
          <p:spPr>
            <a:xfrm flipV="1">
              <a:off x="4419720" y="27432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 rot="10800000">
              <a:off x="4419720" y="2743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495680" y="3429000"/>
            <a:ext cx="685800" cy="360"/>
            <a:chOff x="4495680" y="3429000"/>
            <a:chExt cx="685800" cy="360"/>
          </a:xfrm>
        </p:grpSpPr>
        <p:sp>
          <p:nvSpPr>
            <p:cNvPr id="666" name="Line 8"/>
            <p:cNvSpPr/>
            <p:nvPr/>
          </p:nvSpPr>
          <p:spPr>
            <a:xfrm>
              <a:off x="4495680" y="3429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4495680" y="34290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495680" y="3733920"/>
            <a:ext cx="762120" cy="685800"/>
            <a:chOff x="4495680" y="3733920"/>
            <a:chExt cx="762120" cy="685800"/>
          </a:xfrm>
        </p:grpSpPr>
        <p:sp>
          <p:nvSpPr>
            <p:cNvPr id="669" name="Line 9"/>
            <p:cNvSpPr/>
            <p:nvPr/>
          </p:nvSpPr>
          <p:spPr>
            <a:xfrm>
              <a:off x="4495680" y="373392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4495680" y="373392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71" name="Text Box 10"/>
          <p:cNvSpPr/>
          <p:nvPr/>
        </p:nvSpPr>
        <p:spPr>
          <a:xfrm>
            <a:off x="5181480" y="1902960"/>
            <a:ext cx="221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Dotum"/>
                <a:ea typeface="Dotum"/>
              </a:rPr>
              <a:t>g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n</a:t>
            </a:r>
            <a:br>
              <a:rPr sz="6000"/>
            </a:b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un</a:t>
            </a:r>
            <a:br>
              <a:rPr sz="6000"/>
            </a:b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un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514600" cy="225432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3"/>
          <p:cNvSpPr/>
          <p:nvPr/>
        </p:nvSpPr>
        <p:spPr>
          <a:xfrm>
            <a:off x="3238560" y="117936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77" name="Picture 4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2971800" cy="1614600"/>
          </a:xfrm>
          <a:prstGeom prst="rect">
            <a:avLst/>
          </a:prstGeom>
          <a:ln w="0">
            <a:noFill/>
          </a:ln>
        </p:spPr>
      </p:pic>
      <p:sp>
        <p:nvSpPr>
          <p:cNvPr id="6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15000" cy="2428920"/>
          </a:xfrm>
          <a:prstGeom prst="rect">
            <a:avLst/>
          </a:prstGeom>
          <a:ln w="0">
            <a:noFill/>
          </a:ln>
        </p:spPr>
      </p:pic>
      <p:sp>
        <p:nvSpPr>
          <p:cNvPr id="68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3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1676520" cy="11556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3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1994040" y="1739880"/>
            <a:ext cx="1523880" cy="11304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" descr=""/>
          <p:cNvPicPr/>
          <p:nvPr/>
        </p:nvPicPr>
        <p:blipFill>
          <a:blip r:embed="rId4"/>
          <a:stretch/>
        </p:blipFill>
        <p:spPr>
          <a:xfrm>
            <a:off x="5041800" y="1739880"/>
            <a:ext cx="1752840" cy="1027080"/>
          </a:xfrm>
          <a:prstGeom prst="rect">
            <a:avLst/>
          </a:prstGeom>
          <a:ln w="0">
            <a:noFill/>
          </a:ln>
        </p:spPr>
      </p:pic>
      <p:sp>
        <p:nvSpPr>
          <p:cNvPr id="68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5662440" y="2933640"/>
            <a:ext cx="2086200" cy="23814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2268360" y="18414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Picture 4" descr="20051001091850645"/>
          <p:cNvPicPr/>
          <p:nvPr/>
        </p:nvPicPr>
        <p:blipFill>
          <a:blip r:embed="rId2"/>
          <a:stretch/>
        </p:blipFill>
        <p:spPr>
          <a:xfrm>
            <a:off x="1403280" y="2997360"/>
            <a:ext cx="3733920" cy="2066760"/>
          </a:xfrm>
          <a:prstGeom prst="rect">
            <a:avLst/>
          </a:prstGeom>
          <a:ln w="0">
            <a:noFill/>
          </a:ln>
        </p:spPr>
      </p:pic>
      <p:sp>
        <p:nvSpPr>
          <p:cNvPr id="516" name="同侧圆角矩形 7"/>
          <p:cNvSpPr/>
          <p:nvPr/>
        </p:nvSpPr>
        <p:spPr>
          <a:xfrm>
            <a:off x="468360" y="1038240"/>
            <a:ext cx="200016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直线连接符 21"/>
          <p:cNvSpPr/>
          <p:nvPr/>
        </p:nvSpPr>
        <p:spPr>
          <a:xfrm flipV="1">
            <a:off x="511200" y="1628640"/>
            <a:ext cx="207324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图片 1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8569080" cy="18543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2"/>
          <p:cNvSpPr/>
          <p:nvPr/>
        </p:nvSpPr>
        <p:spPr>
          <a:xfrm>
            <a:off x="2935440" y="119556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整体认读音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106960" y="2670840"/>
            <a:ext cx="205740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yun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2"/>
          <a:stretch/>
        </p:blipFill>
        <p:spPr>
          <a:xfrm>
            <a:off x="1042920" y="2463840"/>
            <a:ext cx="2063880" cy="1849320"/>
          </a:xfrm>
          <a:prstGeom prst="rect">
            <a:avLst/>
          </a:prstGeom>
          <a:ln w="0">
            <a:noFill/>
          </a:ln>
        </p:spPr>
      </p:pic>
      <p:sp>
        <p:nvSpPr>
          <p:cNvPr id="6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7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图片 12" descr=""/>
          <p:cNvPicPr/>
          <p:nvPr/>
        </p:nvPicPr>
        <p:blipFill>
          <a:blip r:embed="rId1"/>
          <a:stretch/>
        </p:blipFill>
        <p:spPr>
          <a:xfrm>
            <a:off x="887400" y="725400"/>
            <a:ext cx="7737480" cy="52642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395280" y="2013120"/>
            <a:ext cx="82296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j                    j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</a:t>
            </a:r>
            <a:r>
              <a:rPr b="0" i="1" lang="en-US" sz="5400" spc="-1" strike="noStrike" u="sng">
                <a:solidFill>
                  <a:srgbClr val="cc3300"/>
                </a:solidFill>
                <a:uFillTx/>
                <a:latin typeface="宋体"/>
                <a:ea typeface="宋体"/>
              </a:rPr>
              <a:t>ɑn</a:t>
            </a: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q    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ü</a:t>
            </a: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 </a:t>
            </a:r>
            <a:r>
              <a:rPr b="0" i="1" lang="en-US" sz="5400" spc="-1" strike="noStrike" u="sng">
                <a:solidFill>
                  <a:srgbClr val="cc3300"/>
                </a:solidFill>
                <a:uFillTx/>
                <a:latin typeface="宋体"/>
                <a:ea typeface="宋体"/>
              </a:rPr>
              <a:t>ɑn</a:t>
            </a: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       q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</a:t>
            </a:r>
            <a:r>
              <a:rPr b="0" i="1" lang="en-US" sz="5400" spc="-1" strike="noStrike" u="sng">
                <a:solidFill>
                  <a:srgbClr val="cc3300"/>
                </a:solidFill>
                <a:uFillTx/>
                <a:latin typeface="宋体"/>
                <a:ea typeface="宋体"/>
              </a:rPr>
              <a:t>ɑn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x                   x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</a:t>
            </a:r>
            <a:r>
              <a:rPr b="0" i="1" lang="en-US" sz="5400" spc="-1" strike="noStrike" u="sng">
                <a:solidFill>
                  <a:srgbClr val="cc3300"/>
                </a:solidFill>
                <a:uFillTx/>
                <a:latin typeface="宋体"/>
                <a:ea typeface="宋体"/>
              </a:rPr>
              <a:t>ɑn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419640" y="1413000"/>
            <a:ext cx="360360" cy="360"/>
            <a:chOff x="3419640" y="1413000"/>
            <a:chExt cx="360360" cy="360"/>
          </a:xfrm>
        </p:grpSpPr>
        <p:sp>
          <p:nvSpPr>
            <p:cNvPr id="702" name="Line 14"/>
            <p:cNvSpPr/>
            <p:nvPr/>
          </p:nvSpPr>
          <p:spPr>
            <a:xfrm>
              <a:off x="3419640" y="141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3419640" y="1413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003640" y="1486080"/>
            <a:ext cx="360360" cy="360"/>
            <a:chOff x="5003640" y="1486080"/>
            <a:chExt cx="360360" cy="360"/>
          </a:xfrm>
        </p:grpSpPr>
        <p:sp>
          <p:nvSpPr>
            <p:cNvPr id="705" name="Line 17"/>
            <p:cNvSpPr/>
            <p:nvPr/>
          </p:nvSpPr>
          <p:spPr>
            <a:xfrm>
              <a:off x="5003640" y="14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5003640" y="14860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916360" y="2854440"/>
            <a:ext cx="215640" cy="431640"/>
            <a:chOff x="2916360" y="2854440"/>
            <a:chExt cx="215640" cy="431640"/>
          </a:xfrm>
        </p:grpSpPr>
        <p:sp>
          <p:nvSpPr>
            <p:cNvPr id="708" name="Line 11"/>
            <p:cNvSpPr/>
            <p:nvPr/>
          </p:nvSpPr>
          <p:spPr>
            <a:xfrm>
              <a:off x="2916360" y="2854440"/>
              <a:ext cx="215640" cy="43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2916360" y="2854440"/>
              <a:ext cx="21564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916000" y="3860640"/>
            <a:ext cx="330480" cy="46080"/>
            <a:chOff x="2916000" y="3860640"/>
            <a:chExt cx="330480" cy="46080"/>
          </a:xfrm>
        </p:grpSpPr>
        <p:sp>
          <p:nvSpPr>
            <p:cNvPr id="711" name="Line 12"/>
            <p:cNvSpPr/>
            <p:nvPr/>
          </p:nvSpPr>
          <p:spPr>
            <a:xfrm flipV="1">
              <a:off x="2916360" y="3860640"/>
              <a:ext cx="330120" cy="46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 rot="10800000">
              <a:off x="2916000" y="3860640"/>
              <a:ext cx="33012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2916000" y="4005360"/>
            <a:ext cx="216000" cy="576000"/>
            <a:chOff x="2916000" y="4005360"/>
            <a:chExt cx="216000" cy="576000"/>
          </a:xfrm>
        </p:grpSpPr>
        <p:sp>
          <p:nvSpPr>
            <p:cNvPr id="714" name="Line 13"/>
            <p:cNvSpPr/>
            <p:nvPr/>
          </p:nvSpPr>
          <p:spPr>
            <a:xfrm flipV="1">
              <a:off x="2916360" y="4005360"/>
              <a:ext cx="215640" cy="57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 rot="10800000">
              <a:off x="2916000" y="4005360"/>
              <a:ext cx="21564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259080" y="3860640"/>
            <a:ext cx="360360" cy="360"/>
            <a:chOff x="3259080" y="3860640"/>
            <a:chExt cx="360360" cy="360"/>
          </a:xfrm>
        </p:grpSpPr>
        <p:sp>
          <p:nvSpPr>
            <p:cNvPr id="717" name="Line 14"/>
            <p:cNvSpPr/>
            <p:nvPr/>
          </p:nvSpPr>
          <p:spPr>
            <a:xfrm>
              <a:off x="3259080" y="3860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8" name=""/>
            <p:cNvSpPr txBox="1"/>
            <p:nvPr/>
          </p:nvSpPr>
          <p:spPr>
            <a:xfrm>
              <a:off x="3259080" y="386064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772160" y="2925360"/>
            <a:ext cx="576000" cy="863640"/>
            <a:chOff x="4772160" y="2925360"/>
            <a:chExt cx="576000" cy="863640"/>
          </a:xfrm>
        </p:grpSpPr>
        <p:sp>
          <p:nvSpPr>
            <p:cNvPr id="720" name="Line 15"/>
            <p:cNvSpPr/>
            <p:nvPr/>
          </p:nvSpPr>
          <p:spPr>
            <a:xfrm flipV="1">
              <a:off x="4772160" y="2925360"/>
              <a:ext cx="576000" cy="86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 rot="10800000">
              <a:off x="4772160" y="2925360"/>
              <a:ext cx="57600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4772160" y="4149720"/>
            <a:ext cx="576000" cy="792000"/>
            <a:chOff x="4772160" y="4149720"/>
            <a:chExt cx="576000" cy="792000"/>
          </a:xfrm>
        </p:grpSpPr>
        <p:sp>
          <p:nvSpPr>
            <p:cNvPr id="723" name="Line 18"/>
            <p:cNvSpPr/>
            <p:nvPr/>
          </p:nvSpPr>
          <p:spPr>
            <a:xfrm>
              <a:off x="4772160" y="4149720"/>
              <a:ext cx="57600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4772160" y="4149720"/>
              <a:ext cx="5760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25" name="Text Box 12"/>
          <p:cNvSpPr/>
          <p:nvPr/>
        </p:nvSpPr>
        <p:spPr>
          <a:xfrm>
            <a:off x="730080" y="54957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小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ü</a:t>
            </a: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遇见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j q x </a:t>
            </a: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，去掉两点还读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ü</a:t>
            </a: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7" name="同侧圆角矩形 14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直线连接符 21"/>
          <p:cNvSpPr/>
          <p:nvPr/>
        </p:nvSpPr>
        <p:spPr>
          <a:xfrm flipV="1">
            <a:off x="468360" y="1485720"/>
            <a:ext cx="2071800" cy="612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椭圆 28"/>
          <p:cNvSpPr/>
          <p:nvPr/>
        </p:nvSpPr>
        <p:spPr>
          <a:xfrm>
            <a:off x="6384960" y="4081320"/>
            <a:ext cx="1147680" cy="819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0" name="椭圆 24"/>
          <p:cNvSpPr/>
          <p:nvPr/>
        </p:nvSpPr>
        <p:spPr>
          <a:xfrm>
            <a:off x="4991040" y="5356080"/>
            <a:ext cx="1146240" cy="819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1" name="椭圆 23"/>
          <p:cNvSpPr/>
          <p:nvPr/>
        </p:nvSpPr>
        <p:spPr>
          <a:xfrm>
            <a:off x="4143240" y="3908520"/>
            <a:ext cx="1148040" cy="819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2" name="椭圆 22"/>
          <p:cNvSpPr/>
          <p:nvPr/>
        </p:nvSpPr>
        <p:spPr>
          <a:xfrm>
            <a:off x="1994040" y="4613400"/>
            <a:ext cx="1145880" cy="819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3" name="椭圆 13"/>
          <p:cNvSpPr/>
          <p:nvPr/>
        </p:nvSpPr>
        <p:spPr>
          <a:xfrm>
            <a:off x="3344760" y="5167440"/>
            <a:ext cx="1148040" cy="819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34" name="图片 15" descr=""/>
          <p:cNvPicPr/>
          <p:nvPr/>
        </p:nvPicPr>
        <p:blipFill>
          <a:blip r:embed="rId1"/>
          <a:stretch/>
        </p:blipFill>
        <p:spPr>
          <a:xfrm>
            <a:off x="2843280" y="2604960"/>
            <a:ext cx="1299960" cy="12780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6" descr=""/>
          <p:cNvPicPr/>
          <p:nvPr/>
        </p:nvPicPr>
        <p:blipFill>
          <a:blip r:embed="rId2"/>
          <a:stretch/>
        </p:blipFill>
        <p:spPr>
          <a:xfrm>
            <a:off x="4437000" y="2604960"/>
            <a:ext cx="1300320" cy="127800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17" descr=""/>
          <p:cNvPicPr/>
          <p:nvPr/>
        </p:nvPicPr>
        <p:blipFill>
          <a:blip r:embed="rId3"/>
          <a:stretch/>
        </p:blipFill>
        <p:spPr>
          <a:xfrm>
            <a:off x="6140520" y="2604960"/>
            <a:ext cx="1299960" cy="12780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8" descr=""/>
          <p:cNvPicPr/>
          <p:nvPr/>
        </p:nvPicPr>
        <p:blipFill>
          <a:blip r:embed="rId4"/>
          <a:stretch/>
        </p:blipFill>
        <p:spPr>
          <a:xfrm>
            <a:off x="7719840" y="2604960"/>
            <a:ext cx="1300320" cy="127800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2" descr=""/>
          <p:cNvPicPr/>
          <p:nvPr/>
        </p:nvPicPr>
        <p:blipFill>
          <a:blip r:embed="rId5"/>
          <a:stretch/>
        </p:blipFill>
        <p:spPr>
          <a:xfrm>
            <a:off x="965160" y="2604960"/>
            <a:ext cx="1301760" cy="1278000"/>
          </a:xfrm>
          <a:prstGeom prst="rect">
            <a:avLst/>
          </a:prstGeom>
          <a:ln w="0">
            <a:noFill/>
          </a:ln>
        </p:spPr>
      </p:pic>
      <p:sp>
        <p:nvSpPr>
          <p:cNvPr id="739" name="圆角矩形 1"/>
          <p:cNvSpPr/>
          <p:nvPr/>
        </p:nvSpPr>
        <p:spPr>
          <a:xfrm>
            <a:off x="2268360" y="955800"/>
            <a:ext cx="4853160" cy="645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0" name="Text Box 2"/>
          <p:cNvSpPr/>
          <p:nvPr/>
        </p:nvSpPr>
        <p:spPr>
          <a:xfrm>
            <a:off x="2365200" y="95904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8886a9"/>
                </a:solidFill>
                <a:uFillTx/>
                <a:latin typeface="Arial"/>
                <a:ea typeface="宋体"/>
              </a:rPr>
              <a:t>仔细拼一拼，找一找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111600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万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Text Box 2"/>
          <p:cNvSpPr/>
          <p:nvPr/>
        </p:nvSpPr>
        <p:spPr>
          <a:xfrm>
            <a:off x="305928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480060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近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Text Box 2"/>
          <p:cNvSpPr/>
          <p:nvPr/>
        </p:nvSpPr>
        <p:spPr>
          <a:xfrm>
            <a:off x="6545160" y="29959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村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8101080" y="29959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群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Text Box 2"/>
          <p:cNvSpPr/>
          <p:nvPr/>
        </p:nvSpPr>
        <p:spPr>
          <a:xfrm>
            <a:off x="2028960" y="46407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8886a9"/>
                </a:solidFill>
                <a:uFillTx/>
                <a:latin typeface="Arial"/>
                <a:ea typeface="宋体"/>
              </a:rPr>
              <a:t>qú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7" name="Text Box 2"/>
          <p:cNvSpPr/>
          <p:nvPr/>
        </p:nvSpPr>
        <p:spPr>
          <a:xfrm>
            <a:off x="4246560" y="4056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Calibri"/>
                <a:ea typeface="宋体"/>
              </a:rPr>
              <a:t>wà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8" name="Text Box 2"/>
          <p:cNvSpPr/>
          <p:nvPr/>
        </p:nvSpPr>
        <p:spPr>
          <a:xfrm>
            <a:off x="6464160" y="40705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632523"/>
                </a:solidFill>
                <a:uFillTx/>
                <a:latin typeface="Calibri"/>
                <a:ea typeface="宋体"/>
              </a:rPr>
              <a:t>cū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Text Box 2"/>
          <p:cNvSpPr/>
          <p:nvPr/>
        </p:nvSpPr>
        <p:spPr>
          <a:xfrm>
            <a:off x="5148360" y="54374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6a6aff"/>
                </a:solidFill>
                <a:uFillTx/>
                <a:latin typeface="Arial"/>
                <a:ea typeface="宋体"/>
              </a:rPr>
              <a:t>jì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同侧圆角矩形 2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TextBox 14"/>
          <p:cNvSpPr/>
          <p:nvPr/>
        </p:nvSpPr>
        <p:spPr>
          <a:xfrm>
            <a:off x="3492360" y="525456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ré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972400" cy="24004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4038480" y="3483000"/>
            <a:ext cx="1905120" cy="10699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6353280" y="1857240"/>
            <a:ext cx="1981080" cy="1243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6353280" y="3483000"/>
            <a:ext cx="1904760" cy="10191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4"/>
          <a:stretch/>
        </p:blipFill>
        <p:spPr>
          <a:xfrm>
            <a:off x="1592280" y="1847880"/>
            <a:ext cx="1752480" cy="1344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5"/>
          <a:stretch/>
        </p:blipFill>
        <p:spPr>
          <a:xfrm>
            <a:off x="3900600" y="1895400"/>
            <a:ext cx="1828800" cy="1249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"/>
          <p:cNvPicPr/>
          <p:nvPr/>
        </p:nvPicPr>
        <p:blipFill>
          <a:blip r:embed="rId6"/>
          <a:stretch/>
        </p:blipFill>
        <p:spPr>
          <a:xfrm>
            <a:off x="1325520" y="3429000"/>
            <a:ext cx="2286000" cy="1154160"/>
          </a:xfrm>
          <a:prstGeom prst="rect">
            <a:avLst/>
          </a:prstGeom>
          <a:ln w="0">
            <a:noFill/>
          </a:ln>
        </p:spPr>
      </p:pic>
      <p:sp>
        <p:nvSpPr>
          <p:cNvPr id="5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2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501040" cy="52041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"/>
          <p:cNvSpPr/>
          <p:nvPr/>
        </p:nvSpPr>
        <p:spPr>
          <a:xfrm>
            <a:off x="2779560" y="175284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d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200400" y="2286000"/>
            <a:ext cx="1084320" cy="206280"/>
            <a:chOff x="3200400" y="2286000"/>
            <a:chExt cx="1084320" cy="206280"/>
          </a:xfrm>
        </p:grpSpPr>
        <p:sp>
          <p:nvSpPr>
            <p:cNvPr id="534" name="Line 3"/>
            <p:cNvSpPr/>
            <p:nvPr/>
          </p:nvSpPr>
          <p:spPr>
            <a:xfrm>
              <a:off x="3200400" y="2286000"/>
              <a:ext cx="10843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3200400" y="2286000"/>
              <a:ext cx="1084320" cy="20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218040" y="2708280"/>
            <a:ext cx="1066680" cy="360"/>
            <a:chOff x="3218040" y="2708280"/>
            <a:chExt cx="1066680" cy="360"/>
          </a:xfrm>
        </p:grpSpPr>
        <p:sp>
          <p:nvSpPr>
            <p:cNvPr id="537" name="Line 4"/>
            <p:cNvSpPr/>
            <p:nvPr/>
          </p:nvSpPr>
          <p:spPr>
            <a:xfrm>
              <a:off x="3218040" y="2708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3218040" y="27082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228480" y="2805120"/>
            <a:ext cx="1148400" cy="512640"/>
            <a:chOff x="3228480" y="2805120"/>
            <a:chExt cx="1148400" cy="512640"/>
          </a:xfrm>
        </p:grpSpPr>
        <p:sp>
          <p:nvSpPr>
            <p:cNvPr id="540" name="Line 5"/>
            <p:cNvSpPr/>
            <p:nvPr/>
          </p:nvSpPr>
          <p:spPr>
            <a:xfrm flipV="1">
              <a:off x="3228840" y="2805120"/>
              <a:ext cx="11480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 rot="10800000">
              <a:off x="3228480" y="2805120"/>
              <a:ext cx="1148040" cy="51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42" name="Picture 6" descr=""/>
          <p:cNvPicPr/>
          <p:nvPr/>
        </p:nvPicPr>
        <p:blipFill>
          <a:blip r:embed="rId2"/>
          <a:stretch/>
        </p:blipFill>
        <p:spPr>
          <a:xfrm>
            <a:off x="4140360" y="2409840"/>
            <a:ext cx="1056960" cy="733320"/>
          </a:xfrm>
          <a:prstGeom prst="rect">
            <a:avLst/>
          </a:prstGeom>
          <a:ln w="0">
            <a:noFill/>
          </a:ln>
        </p:spPr>
      </p:pic>
      <p:pic>
        <p:nvPicPr>
          <p:cNvPr id="543" name="矩形 1" descr=""/>
          <p:cNvPicPr/>
          <p:nvPr/>
        </p:nvPicPr>
        <p:blipFill>
          <a:blip r:embed="rId3"/>
          <a:stretch/>
        </p:blipFill>
        <p:spPr>
          <a:xfrm>
            <a:off x="3219480" y="946080"/>
            <a:ext cx="2360520" cy="9241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2"/>
          <p:cNvSpPr/>
          <p:nvPr/>
        </p:nvSpPr>
        <p:spPr>
          <a:xfrm>
            <a:off x="2779560" y="24148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t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2779560" y="2859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m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同侧圆角矩形 1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1" descr=""/>
          <p:cNvPicPr/>
          <p:nvPr/>
        </p:nvPicPr>
        <p:blipFill>
          <a:blip r:embed="rId1"/>
          <a:stretch/>
        </p:blipFill>
        <p:spPr>
          <a:xfrm>
            <a:off x="485640" y="932040"/>
            <a:ext cx="7974000" cy="54244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2"/>
          <p:cNvSpPr/>
          <p:nvPr/>
        </p:nvSpPr>
        <p:spPr>
          <a:xfrm>
            <a:off x="2127240" y="1352520"/>
            <a:ext cx="885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Dotum"/>
                <a:ea typeface="Dotum"/>
              </a:rPr>
              <a:t>g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k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60760" y="1959120"/>
            <a:ext cx="1082520" cy="990360"/>
            <a:chOff x="2660760" y="1959120"/>
            <a:chExt cx="1082520" cy="990360"/>
          </a:xfrm>
        </p:grpSpPr>
        <p:sp>
          <p:nvSpPr>
            <p:cNvPr id="552" name="Line 3"/>
            <p:cNvSpPr/>
            <p:nvPr/>
          </p:nvSpPr>
          <p:spPr>
            <a:xfrm>
              <a:off x="2660760" y="1959120"/>
              <a:ext cx="1082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2660760" y="1959120"/>
              <a:ext cx="108252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660400" y="3558960"/>
            <a:ext cx="1082880" cy="1066680"/>
            <a:chOff x="2660400" y="3558960"/>
            <a:chExt cx="1082880" cy="1066680"/>
          </a:xfrm>
        </p:grpSpPr>
        <p:sp>
          <p:nvSpPr>
            <p:cNvPr id="555" name="Line 4"/>
            <p:cNvSpPr/>
            <p:nvPr/>
          </p:nvSpPr>
          <p:spPr>
            <a:xfrm flipV="1">
              <a:off x="2660760" y="3558960"/>
              <a:ext cx="10825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 rot="10800000">
              <a:off x="2660400" y="3558960"/>
              <a:ext cx="10825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660760" y="3332160"/>
            <a:ext cx="885600" cy="360"/>
            <a:chOff x="2660760" y="3332160"/>
            <a:chExt cx="885600" cy="360"/>
          </a:xfrm>
        </p:grpSpPr>
        <p:sp>
          <p:nvSpPr>
            <p:cNvPr id="558" name="Line 5"/>
            <p:cNvSpPr/>
            <p:nvPr/>
          </p:nvSpPr>
          <p:spPr>
            <a:xfrm>
              <a:off x="2660760" y="33321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2660760" y="3332160"/>
              <a:ext cx="88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60" name="Picture 6" descr=""/>
          <p:cNvPicPr/>
          <p:nvPr/>
        </p:nvPicPr>
        <p:blipFill>
          <a:blip r:embed="rId2"/>
          <a:stretch/>
        </p:blipFill>
        <p:spPr>
          <a:xfrm>
            <a:off x="4489560" y="2938320"/>
            <a:ext cx="1365120" cy="733680"/>
          </a:xfrm>
          <a:prstGeom prst="rect">
            <a:avLst/>
          </a:prstGeom>
          <a:ln w="0">
            <a:noFill/>
          </a:ln>
        </p:spPr>
      </p:pic>
      <p:sp>
        <p:nvSpPr>
          <p:cNvPr id="561" name="Oval 7"/>
          <p:cNvSpPr/>
          <p:nvPr/>
        </p:nvSpPr>
        <p:spPr>
          <a:xfrm>
            <a:off x="3346560" y="2860560"/>
            <a:ext cx="10825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6013440" y="1415880"/>
            <a:ext cx="1871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500" spc="-1" strike="noStrike" u="sng">
                <a:solidFill>
                  <a:srgbClr val="000000"/>
                </a:solidFill>
                <a:uFillTx/>
                <a:latin typeface="Dotum"/>
                <a:ea typeface="Dotum"/>
              </a:rPr>
              <a:t>g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an   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kuan </a:t>
            </a: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uan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543640" y="2174400"/>
            <a:ext cx="689040" cy="685800"/>
            <a:chOff x="5543640" y="2174400"/>
            <a:chExt cx="689040" cy="685800"/>
          </a:xfrm>
        </p:grpSpPr>
        <p:sp>
          <p:nvSpPr>
            <p:cNvPr id="564" name="Line 9"/>
            <p:cNvSpPr/>
            <p:nvPr/>
          </p:nvSpPr>
          <p:spPr>
            <a:xfrm flipV="1">
              <a:off x="5543640" y="2174400"/>
              <a:ext cx="68904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 rot="10800000">
              <a:off x="5543640" y="2174400"/>
              <a:ext cx="6890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619600" y="3395520"/>
            <a:ext cx="492120" cy="360"/>
            <a:chOff x="5619600" y="3395520"/>
            <a:chExt cx="492120" cy="360"/>
          </a:xfrm>
        </p:grpSpPr>
        <p:sp>
          <p:nvSpPr>
            <p:cNvPr id="567" name="Line 10"/>
            <p:cNvSpPr/>
            <p:nvPr/>
          </p:nvSpPr>
          <p:spPr>
            <a:xfrm>
              <a:off x="5619600" y="339552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5619600" y="3395520"/>
              <a:ext cx="4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543640" y="3699000"/>
            <a:ext cx="590400" cy="990360"/>
            <a:chOff x="5543640" y="3699000"/>
            <a:chExt cx="590400" cy="990360"/>
          </a:xfrm>
        </p:grpSpPr>
        <p:sp>
          <p:nvSpPr>
            <p:cNvPr id="570" name="Line 11"/>
            <p:cNvSpPr/>
            <p:nvPr/>
          </p:nvSpPr>
          <p:spPr>
            <a:xfrm>
              <a:off x="5543640" y="3699000"/>
              <a:ext cx="590400" cy="99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5543640" y="3699000"/>
              <a:ext cx="5904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同侧圆角矩形 1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1762200" cy="220032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36352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1927080" cy="2133720"/>
          </a:xfrm>
          <a:prstGeom prst="rect">
            <a:avLst/>
          </a:prstGeom>
          <a:ln w="0">
            <a:noFill/>
          </a:ln>
        </p:spPr>
      </p:pic>
      <p:sp>
        <p:nvSpPr>
          <p:cNvPr id="5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1371600" cy="755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1219320" cy="711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137160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1663560" y="1460520"/>
            <a:ext cx="5534280" cy="23623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"/>
          <p:cNvPicPr/>
          <p:nvPr/>
        </p:nvPicPr>
        <p:blipFill>
          <a:blip r:embed="rId5"/>
          <a:stretch/>
        </p:blipFill>
        <p:spPr>
          <a:xfrm>
            <a:off x="5016600" y="4127400"/>
            <a:ext cx="1218960" cy="7095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同侧圆角矩形 7"/>
          <p:cNvSpPr/>
          <p:nvPr/>
        </p:nvSpPr>
        <p:spPr>
          <a:xfrm>
            <a:off x="15840" y="83340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直线连接符 21"/>
          <p:cNvSpPr/>
          <p:nvPr/>
        </p:nvSpPr>
        <p:spPr>
          <a:xfrm flipV="1">
            <a:off x="15840" y="1409400"/>
            <a:ext cx="2071800" cy="612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10" descr=""/>
          <p:cNvPicPr/>
          <p:nvPr/>
        </p:nvPicPr>
        <p:blipFill>
          <a:blip r:embed="rId1"/>
          <a:stretch/>
        </p:blipFill>
        <p:spPr>
          <a:xfrm>
            <a:off x="611280" y="781200"/>
            <a:ext cx="7975440" cy="54226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"/>
          <p:cNvSpPr/>
          <p:nvPr/>
        </p:nvSpPr>
        <p:spPr>
          <a:xfrm>
            <a:off x="5638680" y="1297080"/>
            <a:ext cx="190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en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en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en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4952880" y="3429000"/>
            <a:ext cx="609840" cy="1295280"/>
            <a:chOff x="4952880" y="3429000"/>
            <a:chExt cx="609840" cy="1295280"/>
          </a:xfrm>
        </p:grpSpPr>
        <p:sp>
          <p:nvSpPr>
            <p:cNvPr id="592" name="Line 3"/>
            <p:cNvSpPr/>
            <p:nvPr/>
          </p:nvSpPr>
          <p:spPr>
            <a:xfrm>
              <a:off x="4952880" y="3429000"/>
              <a:ext cx="6098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4952880" y="3429000"/>
              <a:ext cx="60984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3962520" y="2882880"/>
            <a:ext cx="895320" cy="6094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5"/>
          <p:cNvSpPr/>
          <p:nvPr/>
        </p:nvSpPr>
        <p:spPr>
          <a:xfrm>
            <a:off x="2362320" y="1284120"/>
            <a:ext cx="99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124080" y="1968480"/>
            <a:ext cx="762120" cy="1066680"/>
            <a:chOff x="3124080" y="1968480"/>
            <a:chExt cx="762120" cy="1066680"/>
          </a:xfrm>
        </p:grpSpPr>
        <p:sp>
          <p:nvSpPr>
            <p:cNvPr id="597" name="Line 6"/>
            <p:cNvSpPr/>
            <p:nvPr/>
          </p:nvSpPr>
          <p:spPr>
            <a:xfrm>
              <a:off x="3124080" y="196848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3124080" y="196848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048120" y="3263760"/>
            <a:ext cx="761760" cy="360"/>
            <a:chOff x="3048120" y="3263760"/>
            <a:chExt cx="761760" cy="360"/>
          </a:xfrm>
        </p:grpSpPr>
        <p:sp>
          <p:nvSpPr>
            <p:cNvPr id="600" name="Line 7"/>
            <p:cNvSpPr/>
            <p:nvPr/>
          </p:nvSpPr>
          <p:spPr>
            <a:xfrm>
              <a:off x="3048120" y="32637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048120" y="326376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048120" y="3568320"/>
            <a:ext cx="838080" cy="1066680"/>
            <a:chOff x="3048120" y="3568320"/>
            <a:chExt cx="838080" cy="1066680"/>
          </a:xfrm>
        </p:grpSpPr>
        <p:sp>
          <p:nvSpPr>
            <p:cNvPr id="603" name="Line 8"/>
            <p:cNvSpPr/>
            <p:nvPr/>
          </p:nvSpPr>
          <p:spPr>
            <a:xfrm flipV="1">
              <a:off x="3048120" y="356832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 rot="10800000">
              <a:off x="3048120" y="3568320"/>
              <a:ext cx="83808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952880" y="1968120"/>
            <a:ext cx="609840" cy="1143000"/>
            <a:chOff x="4952880" y="1968120"/>
            <a:chExt cx="609840" cy="1143000"/>
          </a:xfrm>
        </p:grpSpPr>
        <p:sp>
          <p:nvSpPr>
            <p:cNvPr id="606" name="Line 9"/>
            <p:cNvSpPr/>
            <p:nvPr/>
          </p:nvSpPr>
          <p:spPr>
            <a:xfrm flipV="1">
              <a:off x="4952880" y="1968120"/>
              <a:ext cx="609840" cy="1143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 rot="10800000">
              <a:off x="4952880" y="1968120"/>
              <a:ext cx="60984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952880" y="3263760"/>
            <a:ext cx="609840" cy="360"/>
            <a:chOff x="4952880" y="3263760"/>
            <a:chExt cx="609840" cy="360"/>
          </a:xfrm>
        </p:grpSpPr>
        <p:sp>
          <p:nvSpPr>
            <p:cNvPr id="609" name="Line 10"/>
            <p:cNvSpPr/>
            <p:nvPr/>
          </p:nvSpPr>
          <p:spPr>
            <a:xfrm>
              <a:off x="4952880" y="32637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4952880" y="326376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0:00Z</dcterms:created>
  <dc:creator/>
  <dc:description/>
  <dc:language>en-US</dc:language>
  <cp:lastModifiedBy>万润仪器贸易公司</cp:lastModifiedBy>
  <dcterms:modified xsi:type="dcterms:W3CDTF">2020-08-24T01:46:17Z</dcterms:modified>
  <cp:revision>6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